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E9E-B322-4EBC-9B12-49CD5083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16E-08DB-45B9-8FF6-130B108E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E03-FA56-4304-A8E6-0C312840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EF4-C48D-46E0-B46A-22F46CFC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5C0-E2BD-4850-83DF-C6084036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B6F-F56F-44EA-AF68-4F0E28C2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ACA-036D-4E35-B76E-9CF99A65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65E-C8F9-48F5-85FB-30A5A7BD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D97-707C-496E-909A-A9B1BE1F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15F-468B-4D26-A366-C8828AA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116-AE65-4D16-A712-BB823A3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CAE-60B6-4A3D-9CC6-16C3E308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2F96E-9D73-4768-8427-9B808395D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666576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8800" y="2727360"/>
            <a:ext cx="387504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 Web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sh Good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5998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t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ine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bernate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atis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::DBI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ware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(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web services are in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ryone uses Chado (nor will th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PIs are language or syste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light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ful (GET, POST, etc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data model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high level cross database 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ed URLs for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lists (XML, JSON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s in Generic Gene Page (GGP)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27240"/>
            <a:ext cx="907092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full text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fulltext/RNA%20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ntology/mitotic%20spindle%20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rthologs/WBGene000065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 retrieval (GGP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fetch/FBgn0026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22:04:49Z</dcterms:created>
  <dc:creator>Josh Goodman</dc:creator>
  <dc:description/>
  <dc:language>en-US</dc:language>
  <cp:lastModifiedBy/>
  <dcterms:modified xsi:type="dcterms:W3CDTF">2009-01-15T18:11:25Z</dcterms:modified>
  <cp:revision>14</cp:revision>
  <dc:subject/>
  <dc:title/>
</cp:coreProperties>
</file>